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A0CC-13C1-4B1B-9734-B6A9E92FB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4E2D-131C-4485-AF93-4BFBFAB4E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5DF0-2E73-4EE8-90BB-26B93221F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A11E-E61F-497F-AA53-BFFBBC5E7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F75B-08AC-4D68-B77B-BDF661046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8DDB-5390-4A3D-8CF6-27484438F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FB32-636C-4B42-B27F-23685B8A8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8561-4927-47CB-81FC-A7964A453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_x0017_UNFPA Logo 2/BANNER.tif                                        00059BBF_x0006_Muschi                         ABA78158:"/>
          <p:cNvPicPr/>
          <p:nvPr/>
        </p:nvPicPr>
        <p:blipFill>
          <a:blip r:embed="rId2"/>
          <a:stretch/>
        </p:blipFill>
        <p:spPr>
          <a:xfrm>
            <a:off x="0" y="0"/>
            <a:ext cx="914076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ba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2133720" y="5029200"/>
            <a:ext cx="57909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600" spc="-1" strike="noStrike">
                <a:solidFill>
                  <a:srgbClr val="ffffff"/>
                </a:solidFill>
                <a:latin typeface="UNFPA-Semibold"/>
              </a:rPr>
              <a:t>Donor Coordination Forum</a:t>
            </a:r>
            <a:br>
              <a:rPr sz="3600"/>
            </a:br>
            <a:r>
              <a:rPr b="0" lang="bs-BA" sz="2400" spc="-1" strike="noStrike">
                <a:solidFill>
                  <a:srgbClr val="ffffff"/>
                </a:solidFill>
                <a:latin typeface="UNFPA-Semibold"/>
              </a:rPr>
              <a:t>Sarajevo, 30th June 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_x0019_UNFPA-Logo_Intro-page.gif                                      00059BBF_x0006_Muschi                         ABA78158:"/>
          <p:cNvPicPr/>
          <p:nvPr/>
        </p:nvPicPr>
        <p:blipFill>
          <a:blip r:embed="rId1"/>
          <a:stretch/>
        </p:blipFill>
        <p:spPr>
          <a:xfrm>
            <a:off x="2146320" y="765000"/>
            <a:ext cx="5181480" cy="2444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133720" y="3141720"/>
            <a:ext cx="55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ing a world where every pregnancy is wanted, every childbirth is safe and every young person's potential is fulfi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971640" y="2276640"/>
            <a:ext cx="7416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11360" y="54936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ffffff"/>
                </a:solidFill>
                <a:latin typeface="UNFPA-Semibold"/>
              </a:rPr>
              <a:t>Mandate and busines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95280" y="198900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PD 1994, Ca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SP 2014-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CPD 2015-201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y, advocacy and capacity bui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4788000" y="2451240"/>
            <a:ext cx="395136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UNFPA Work in B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989000"/>
            <a:ext cx="8424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CPD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2015-2019 outlines 4 pillars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R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YOU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BV/CRS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Context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 Bi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ow fertility rate and use of modern contracep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Youth comprise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¼ of population, but unemployment is 6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igh prevalence rate of GBV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very 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woman is a victim of some form of violence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). Legacy of CRS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g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eing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population (by 2050, 40% over 65 in Bi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1 S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324000" y="177336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RH poli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s and quality improvement in maternal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 provision on family planning, maternal health and cervical canc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ting Minimum Initial Service Package to address the need of women, youth and elderly in emergency sit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2 Y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68360" y="191628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th policies 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disadvantaged groups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informal sexuality education through youth peer outreach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comprehensive sexuality education and advocacy for inclusion in formal educational system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ressing early marriages, including teen pregna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89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3 GBV/CRS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50920" y="1916280"/>
            <a:ext cx="864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ong focus on 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CRS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 health sector capacity building and referrals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, addressing stigm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UN JP –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, Canada, UN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ing gender-transformative approaches and strengthening the engagement of men and boys on gender equality and gender-based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ment of SRHR reporting mechanis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4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468360" y="191628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capacities for population data collection, analysis, dissemination and use for informed policy development (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Cens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D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ment of ageing policies in line with the Madrid International Plan of Action on Ag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4:10:48Z</dcterms:created>
  <dc:creator>Jurgen</dc:creator>
  <dc:description/>
  <dc:language>en-US</dc:language>
  <cp:lastModifiedBy>Gabrijela Jurela</cp:lastModifiedBy>
  <dcterms:modified xsi:type="dcterms:W3CDTF">2016-06-28T15:43:38Z</dcterms:modified>
  <cp:revision>195</cp:revision>
  <dc:subject/>
  <dc:title>No Slide Title</dc:title>
</cp:coreProperties>
</file>